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61035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AFC6-F143-4F4F-BF41-DCE3E85B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02D3-0375-4D4D-9F83-F64B6F89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A50-6327-4161-879E-EF969087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44E-329F-418F-AEC3-81641EEF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6C16-5AAC-4008-82CE-47BF880D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1053-2233-4803-B2DA-AEC9BF54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B0B5-8488-4B5A-8E44-7381D7F6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CD5D-BB93-4AEA-B072-4BADBB85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DB6D-C7E4-4EC7-B056-39EF3608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C532-3D3A-4E3C-BC86-6E97CC83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AE4D-F003-4A43-B79C-C2B2F683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E04-B06E-4EBD-A624-86888DD0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BA99-08F0-4B74-BEF8-DB56CFA9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A8B6-481E-462E-A256-1E37B13B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C501-E903-4ECF-A094-CF8C8D6E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E74D-A57E-4355-A7D1-BE48016F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E811-67C6-4EC4-AA35-EE15AF76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2C1-8052-4630-AC82-0466FE6D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B01-74EE-44AC-851B-94FBBEF2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2B8-4F95-470D-AEB8-2727897D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1F5-778F-4611-AAC2-25CBBC8A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0B8-AC7B-41D6-A1CB-17CB1E01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107-3B79-421D-A602-080DB75F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1A1C-9A7A-41E8-B368-1D5F6DA0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1FAC-C97C-4728-8064-53DB6D91DA24}" type="slidenum"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9" name="Picture 42" descr=""/>
          <p:cNvPicPr/>
          <p:nvPr/>
        </p:nvPicPr>
        <p:blipFill>
          <a:blip r:embed="rId2"/>
          <a:stretch/>
        </p:blipFill>
        <p:spPr>
          <a:xfrm>
            <a:off x="1979640" y="68400"/>
            <a:ext cx="5040360" cy="1199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021C-AF1A-4994-A537-ABEB38D7EF4B}" type="slidenum"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8280" y="1413000"/>
            <a:ext cx="8217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ГРИСА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АДЕМСКЕ СТУДИЈЕ ФАРМАЦИЈЕ</a:t>
            </a:r>
            <a:br>
              <a:rPr sz="2400"/>
            </a:b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В18 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560" y="3481560"/>
            <a:ext cx="8569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МУНОСУПРЕСИВНИ ЛЕК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МУНОСТИМУЛАН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. неде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ц. др Оливера Милован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Calibri"/>
              </a:rPr>
              <a:t>Инхибитори пролиферацијских сигнала ( сиролимус и еверолимус, темсиролимус)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иролимус се примењује као монотерапија или као комбинована терапија ( са кортикостероидима, циклоспорином, такролимусос или микофенолат мофетило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жељени ефекти: тешка мијелосупресија (тромбоцитопенија!!!), хепатотоксичност, ГИТ тегобе, хипертриглицеридемија, главобоља, пнеумонит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Calibri"/>
              </a:rPr>
              <a:t>Нису нефротоксични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Calibri"/>
              </a:rPr>
              <a:t>Темсиролимус- није у употреби као имуносупреси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Calibri"/>
              </a:rPr>
              <a:t>Еверолимус- ефикасност иста као код сиролимуса, већа биоискористљивост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Цитостатиц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056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екови који сузбијају имуни одговор путем ометања синтезе нуклеинских киселина ( у току имунског одгвора долази до експлозивне деобе лимфоцит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о имуносупресиви дају се у малим дозама, континуира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иклофосфам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Један од делотворнији тренутно постојећих имуносупрес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лкилирајући агенс; хлор-етил-амин везује за нуклеинску базу у ДНК и доводи до грешака приликом реплик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жељена дејства: неутропенија, тромбоцитопенија, алопеција, хеморагични циститис, мучнина, повраћање, кардиотоксичност и електролитни дисбалан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Цитостати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затиопр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екусор меркаптопурина, омета нормалну синтезу ДН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ркаптопурин се као лажни нуклеотид уграђује у ДНК које се брзо деле тако да при поновној репликацији долази до грешака и смрти ћелиј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ркаптопурин нежељена дејства: оштећење крве лозе, анемије, леукопеније и тромбоцитопеније, хепатотоксичнос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псорпција азатиоприна из ГИТ-а: добра; метаболизам: јетра; елиминација: путем бубрега; Т</a:t>
            </a:r>
            <a:r>
              <a:rPr b="0" lang="sr-RS" sz="2200" spc="-1" strike="noStrike" baseline="-25000">
                <a:solidFill>
                  <a:srgbClr val="000000"/>
                </a:solidFill>
                <a:latin typeface="Calibri"/>
              </a:rPr>
              <a:t>1/2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= 5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имењује се као комбинована терапија са кортикостероиди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жењена дејства азатиоприна: супресија костне сржи, склоност ка инфекцијама, ГИТ тегобе (повећавају се са већом дозом), канцерогено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Азатиоприн+ алопуринол!!!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( доза азатиоприна се мора смањити за четвртину до трећине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Цитостати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560" y="1341360"/>
            <a:ext cx="8569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етотрекс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налог фолне киселине, блокира се дихидрофолат-редуктаза, ↓ тетрахидрофолна киселина 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мета се функционисање ензима чији је кофактор метил-тетрахидрофолна кисели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окадом ензима тимидилат-синтетазе онемогућава стварање тимидилата, једног од 4 нуклеотида неопходних за синтезу ДН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немија, леукопенија, тромбоцитопен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Цитостати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9280" y="1484280"/>
            <a:ext cx="8640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икофенолат мофет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инхибитор синтезе гуаноз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након оралне примене апсорпција је добра; поред оралне могућа је и интравенска приме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Метаболизам: јетра ( </a:t>
            </a:r>
            <a:r>
              <a:rPr b="1" lang="sr-RS" sz="1600" spc="-1" strike="noStrike">
                <a:solidFill>
                  <a:srgbClr val="000000"/>
                </a:solidFill>
                <a:latin typeface="Calibri"/>
              </a:rPr>
              <a:t>микофенолна киселина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- активан облик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Нежељена дејства: ГИТ тегове ( мучнина, повраћање, дијареја, абдоминални бол), главобоља, хипертензија, реверзибилна мијелосупресија ( неутропенија!!!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ефлуном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ролек од којег настаје активни облик који инхибира синтезу пиримид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ктивна облик има време полуелиминације  од неколико недељ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Лечење се почиње ударном дозома, а након постизања равнотеже лек се примењује једном днев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Хепатотоксичност, нефротоксично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идроксихлорок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нтималарик, повећава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итраћелијских органела и омета процесирање антиг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Антилимфоцитни и антитимоцитни глобул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148392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адрже антитела анималног порекла против лимфоцита из крви или против лимфоцита из тиму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дикације: спречавање одбацивања трансплант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жељена дејства: анафилактичка реакција, серумска бол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уромона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оноклонско антитело, везује се за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CD3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антиген на Т лимфоцитима чиме се инхибира активација Т лимфоцита, постаје нефункционала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кације: превенција одбацивања трансплантата бубрега, јетре или срца, као и за смањење броја Т лимфоцита у костној сржи донатора (пре трансплантације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жељена дејства:  едем плућа, фебрилност, анафилактичка реакција, повраћ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Антилимфоцитни и антитимоцитни глобул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4000" y="1600200"/>
            <a:ext cx="849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нти-Рх фактор глобу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хуманог порекла 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примењује се im. У року од  72 часа од порођаја код Рх негативних мајки које су добиле Рх позитивно новорођенч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антитела против Рх- фактора из глобулина облажу еритроците полода који се транспортују у крвоток мајке и тако се спречава сензибилиза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Нежељени ефекти су ретки, осећај нелагодности на месту апликације,  благо повишена телесна температу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Биолошка“ имуносупресивна терап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јачана активност TNF-α и IL-1 у основи је многих инфламаторних и аутоимуних обољења. Наведене инфламаторне медијаторе луче макрофаги и моноцити што последично индукује синтезу других инфламаторних параметара и интензивирања инфлам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локатори TNF-α су: инфликсимаб, адалимумаб, етарнерцепт, голимумаб, цертолизума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тагонисти IL-1: анакин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sr-RS" sz="4000" spc="-1" strike="noStrike">
                <a:solidFill>
                  <a:srgbClr val="000000"/>
                </a:solidFill>
                <a:latin typeface="Calibri"/>
              </a:rPr>
              <a:t>Биолошка“ имуносупресивна 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Инфликсима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мерно моноклонско антитело н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NF-α које настаје спајањем хуманог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Fc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фрагмента и мишијег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Fab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рагмента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дикације: реуматоидни артритис, Кронова бол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имењује се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iv.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утем..Приликом инфузије инфликсимаба долази до пораста телесне температуре, дрхтавице, бола у грудима,хипо или хипертензије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о и други лекови из ове групе и он повећава склоност ка озбиљним инфекцијама (као што је нпр..туберкулоза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Биолошка“ имуносупресивна 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Адалимума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Хумано моноклонско антитело, везује се з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NF-α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 врши његову неутрализацију, тј. инхибира везивање з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NF рецепторе; смањује концентрацију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CRP-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дикација: реуматоидни артрити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мњује се путем 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sc.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њекције, 40 мг два пута месечно најчешће као комбинована терап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RS" sz="2600" spc="-1" strike="noStrike" baseline="-25000">
                <a:solidFill>
                  <a:srgbClr val="000000"/>
                </a:solidFill>
                <a:latin typeface="Calibri"/>
              </a:rPr>
              <a:t>1/2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= 2 недеље ( а за 29-44% је дуже ако се користи заједно са метотрексатом!!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Нежељена дејства: црвенило, бол и оток на месту апликације, повећана склоност ка озбиљним инфекција, демијелинизација (ретко)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002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муносупресивни лек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9280" y="1447920"/>
            <a:ext cx="86407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муносупресија-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мањење активности имуног сис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мунусупресиви- лекови који смањују активност имуног сис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дикације за имуносупресивну терапиј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ансплантација ткива и органа ( превенција и/или терапија одбацивања транспланта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утоимунске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линичку употребу имуносупресивне терапије отежавају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збиљна нежељена дејства!!!!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след  фармаколошког дејства имуносупресива долази до измене имунолошког одговора код пацијената и повећане склоности ка инфекцијама и малигним обољењи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Биолошка“ имуносупресивна 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тарнерцеп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створљив рецептор з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NF-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фекат сличан инфликсимабу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икације: реуматоидни артритис резистентан на другу терапију и јувенилни идиопатски артритис који не реагује на друге лекове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њује се путем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sc.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њекције, 25 мг два пута недељ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RS" sz="2400" spc="-1" strike="noStrike" baseline="-25000">
                <a:solidFill>
                  <a:srgbClr val="000000"/>
                </a:solidFill>
                <a:latin typeface="Calibri"/>
              </a:rPr>
              <a:t>1/2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= 115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оже се примењивати у комбинацији са метотрекса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жељена дејства: локална реакција, сепса, тешке инфекције, демијелинизација и апластична анемија (ретк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Биолошка“ имуносупресивна 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олимума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NF-α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локат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кован је за лечење реуматоидног артритиса, анкилозирајућег спондилитиса и псоријатичног артрити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жељена дејства: смањена отпорност на инфек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Цертолизума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оклонско антитело које се везује за TNF-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ри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лече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мере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ешк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бли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реуматоид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ртрити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драслих пацијената, ка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руг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леков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 успев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тролишу болест (блоки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НФ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паљењ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Биолошка“ имуносупресивна терап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накин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теински препарат,везује се за рецепторе з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L-1 и тиме се онемогућава деловање ендогеног IL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фекат слабији од ефекта антагониста TNF-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њује се поткож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жељена дејства: склоност ка озбиљним инфекцијама, неутропенија, тробоцитопениј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батацепт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ритуксимаб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цилизума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батацепт - рекомбинантни протеин који се састоји од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Fc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фрагмента хуманог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IgG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антитела и екстраћелијског дела молекула који инхибира Т-лимфоците; такође се може користити у лечењу реуматоидног артритис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итуксимаб - хуманизовано мишје моноклонско антитело које се везује за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0 антиген на Б-лимфоцитима, доводећи до смрти тих ћелија и смањења имуног одговор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цилизумаб - моноклонско антитело против рецептора за интерлеукин 6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а три лека се примењују парентерално (са размаком од једне или више недељ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жељена дејства: слична инхибиторима TNF-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Имуностимула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1557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екови који врше „појачање“ имунског одгов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дикације: код болесника са малигним болестима и код особа са урођеним  и стеченим дефицитом имунског система, код хроничних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имоз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ешавина пептида ектрахованих из тиму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дикације: Ди Ђоршијев синдром ( утиче на сазревање прекусора Т- лимфоци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актор стимулације гранулоцитних и макрофагних колонија и фактор стимулације гранулоцитних колон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Имуностимулато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терферо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ри врсте интерферона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терферон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се користи у терапији леукемије власастих ћелија, Капосијевог саркома и хроничног хепатитиса Б и Ц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терферон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се корист: рецидивантна мултипла склер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терферон 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хронична грануломатозна обољ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усефекти интерферона:  алергијске реакције, синдром сличан грипу ( интерферон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депресија, мијелосупре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Имуностимулато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терлеукин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цитокин који интензивира пролиферацију,  диференцијацију и груписање Т и Б лимфоцита, природних „ћелија убица“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мењује се i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жељена дејства: грозница, повраћање, умор, хипотензија, дијаре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евамиз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рши активацију макрофага, лимфоцита и гранулоци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скључиво се даје као комбинована терапија са флуороурацилом код колоректалног карционома у стадијуму Дјук 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жељено дејство: агранулоцит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Имуностимулато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муноглобулин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золовани из плазме обичних давалаца- 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гама глобули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золовани из плазме давалаца који су раније прележали неку инфективну болест- 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хиперимуни глобули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жељена дејства: анафилактичка реакција; хипотензиј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BCG-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вакци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ачињена од живих, атенуираних бацила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Mycobacterium bovis.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..Мурамил-дипептид продукт активира Т-лимфоците  и природне „ћелије убице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нтравезикална примена код карционама мокраћне беши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еакције преосетљивости су нусефека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муносупресивни лек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9280" y="13410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јвећи број лекова из ове групе остварује терапијски ефекат у индукцији имунолошког одговора; ↓ пролиферација лимфоцита док поједини лекови уз то врше и инхибицију ефекторне фа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Подела имуносупресива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Глукокортикоиди (кортикостероид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Инхибитори калцинеурина (циклоспорин и такролиму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Инхибитори пролиферацијских сигнала ( сиролимус и еверолимус, темсиролимус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Цитостатици- лекови који изазивају прекид ћелијског метаболизма са инхибицијом пролиферације  (азатиоприн, метотрексат, циклофосфамид и микофенолат мофети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Антилимфоцитни и антитимоцитни глобули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Биолошки“ имуносупреси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600" spc="-1" strike="noStrike">
                <a:solidFill>
                  <a:srgbClr val="000000"/>
                </a:solidFill>
                <a:latin typeface="Calibri"/>
              </a:rPr>
              <a:t>Глукокортикоиди (кортикостероиди</a:t>
            </a:r>
            <a:r>
              <a:rPr b="0" i="1" lang="sr-RS" sz="4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муносупресивни ефекат остварују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роја лимфоцита у циркулацији ( доминантно Т лимфоцит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дукцијом антитела за специфичне антиге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нтезе  IL ( посебно IL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линички ефекат у трансплантацији је најинтензивнији ако се примене од почетк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 тј. пре него што дође до успостављања имунског одговора, накнадна примена није повезана са потпуним губитком терапијског ефекта већ са минималним ефекто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7931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Глукокортикоиди (кортикостероид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Најчешће коришћен имуносупресив из ове групе: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преднизон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per o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Кортикостероиди се као имуносупресиви користе као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комбинована терапија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јер је тада терапијски ефекат знатно бољ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Монотерапија кортикостероидима се врши ретко: хемолитичка анемија, тромбоцитопенија..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569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4000" spc="-1" strike="noStrike">
                <a:solidFill>
                  <a:srgbClr val="000000"/>
                </a:solidFill>
                <a:latin typeface="Calibri"/>
              </a:rPr>
              <a:t>Глукокортикоиди (кортикостероиди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40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тежавајућа околност за примену кортикостероида као имуносупресива јесу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бројна нежељена дејства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ја се нарочито манифестују код дуготрајне примене!!!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жељена дејства кортикостероид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остеопоро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атрофија кож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депресиј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хипертензиј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хипергликемиј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катарак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пептички улкус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Јатрогени Кушингов синдро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супресија коре надбубрежне жлезде ( код дуготрајне примене и наглог прекида терапије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жељена дејства кортикостероида су дозно зависна и чешћа код дуготрајне примене!!!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Инхибитори калцинеурина (циклоспорин и такролимус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6000" y="1267920"/>
            <a:ext cx="8712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 литератури је за наведене имуносупресиве доступан још један назив 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антибиотици- 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продукти микроорганизама који показују имуносупресивни ефекат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Циклоспори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пептидни антибиотик, липосолубилан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врши блокирање диференцијације Т лимфоцита у раној фази успостављања имунског одговор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Везује се за циклофин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Calibri"/>
              </a:rPr>
              <a:t>циклоспорин+циклофин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sr-RS" sz="1900" spc="-1" strike="noStrike">
                <a:solidFill>
                  <a:srgbClr val="000000"/>
                </a:solidFill>
                <a:latin typeface="Calibri"/>
              </a:rPr>
              <a:t>смањење синтезе и ослобађања цитокина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 (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L2, 3, 4 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, интерферон алфа, фактор некрозе тумора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Индикације: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Одбацивање трансплантата ( комбинована терапија са кориткостероидима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Реуматоидни артритис, системски лупус еритематозуса, псоријазе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Може се примењивати интравенски или орално ( апсорпција из ГИТ-а спора и непотпуна 20-50%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Главни пут елиминације је у јетри преко цитохрома П450 изоформе 3А!!!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Straight Arrow Connector 4"/>
          <p:cNvCxnSpPr/>
          <p:nvPr/>
        </p:nvCxnSpPr>
        <p:spPr>
          <a:xfrm>
            <a:off x="3564000" y="4220640"/>
            <a:ext cx="1296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6" name="TextBox 6"/>
          <p:cNvSpPr/>
          <p:nvPr/>
        </p:nvSpPr>
        <p:spPr>
          <a:xfrm>
            <a:off x="3564000" y="3645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ndara"/>
              </a:rPr>
              <a:t>Инхибиција ензиме калцинеурин фосфатаза </a:t>
            </a:r>
            <a:endParaRPr b="0" lang="en-US" sz="9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Инхибитори калцинеурина (циклоспорин и такролимус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9280" y="155736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Циклоспори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Велики број нежељених ефеката !!! ( </a:t>
            </a:r>
            <a:r>
              <a:rPr b="1" lang="sr-RS" sz="1900" spc="-1" strike="noStrike">
                <a:solidFill>
                  <a:srgbClr val="000000"/>
                </a:solidFill>
                <a:latin typeface="Calibri"/>
              </a:rPr>
              <a:t>нефротоксичност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, хипертензија, хипергликемија, хепатотоксичност, хиперкалемија,промене менталног статуса, конвулзије, хирзутизам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није токсичан за костну срж!!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комбинована терапија: са кортикостероидима, метотрексато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Такролимус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муносупресивни макролидни антибиотик, продукује га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Streotimyces tsukubaen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ако хемијски није идентичан циклоспорину, механизам дејства се преклапа (везује се за имунофилин, настали комплекс инхибира калциеурин неопходан фактор у активацији транскрипцијског фактора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NF-AT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специфичног за Т лимфоцит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ндикације: исте као за циклоспор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мбинована терапија: метотрексат, микофенолат мофети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оже се примењивати орално или интравенс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жељени ефекти: нефротоксичност, неуротоксичност, хиперглиекмија, хипертензија, хиперкалијемија, ГИТ поремећа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Инхибитори пролиферацијских сигнала ( сиролимус и еверолимус, темсиролимус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148428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иноним: инхибитори места везивања рапамицина код сисара (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TOR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хибитори ; м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lecul target of rapamyc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езивање рапамицина је кључни елемент комплексног сигналног система задуженог за раст , метаболизам и пролиферацију ћелија.  Услед блокаде овог везивног места долази до инхибирања стимулативног дејства цитокина на лимфоците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иролимус постоји  само  у формулацији за 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per os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име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иролимус Т</a:t>
            </a:r>
            <a:r>
              <a:rPr b="0" lang="sr-RS" sz="2400" spc="-1" strike="noStrike" baseline="-25000">
                <a:solidFill>
                  <a:srgbClr val="000000"/>
                </a:solidFill>
                <a:latin typeface="Calibri"/>
              </a:rPr>
              <a:t>1/2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= 6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; Еверолимус Т</a:t>
            </a:r>
            <a:r>
              <a:rPr b="0" lang="sr-RS" sz="2400" spc="-1" strike="noStrike" baseline="-25000">
                <a:solidFill>
                  <a:srgbClr val="000000"/>
                </a:solidFill>
                <a:latin typeface="Calibri"/>
              </a:rPr>
              <a:t>1/2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= 4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псорпција оба лека из ГИТ-а: бр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таболизам: цитохром П450 3А и П- гликопротеин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1:20:01Z</dcterms:created>
  <dc:creator>Marko</dc:creator>
  <dc:description/>
  <dc:language>en-US</dc:language>
  <cp:lastModifiedBy>User</cp:lastModifiedBy>
  <dcterms:modified xsi:type="dcterms:W3CDTF">2017-09-14T21:59:22Z</dcterms:modified>
  <cp:revision>608</cp:revision>
  <dc:subject>Klinicki farmakolog</dc:subject>
  <dc:title>Verzija za sajt fakulteta</dc:title>
</cp:coreProperties>
</file>